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6.png" ContentType="image/png"/>
  <Override PartName="/ppt/media/image1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3.jpeg" ContentType="image/jpeg"/>
  <Override PartName="/ppt/media/image15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  <p:sldId id="270" r:id="rId55"/>
    <p:sldId id="271" r:id="rId56"/>
    <p:sldId id="272" r:id="rId57"/>
    <p:sldId id="273" r:id="rId58"/>
    <p:sldId id="274" r:id="rId59"/>
    <p:sldId id="275" r:id="rId60"/>
    <p:sldId id="276" r:id="rId61"/>
    <p:sldId id="277" r:id="rId62"/>
    <p:sldId id="278" r:id="rId63"/>
    <p:sldId id="279" r:id="rId64"/>
    <p:sldId id="280" r:id="rId65"/>
    <p:sldId id="281" r:id="rId66"/>
    <p:sldId id="282" r:id="rId67"/>
    <p:sldId id="283" r:id="rId68"/>
    <p:sldId id="284" r:id="rId69"/>
    <p:sldId id="285" r:id="rId70"/>
    <p:sldId id="286" r:id="rId71"/>
    <p:sldId id="287" r:id="rId72"/>
    <p:sldId id="288" r:id="rId73"/>
    <p:sldId id="289" r:id="rId74"/>
    <p:sldId id="290" r:id="rId75"/>
    <p:sldId id="291" r:id="rId76"/>
    <p:sldId id="292" r:id="rId77"/>
    <p:sldId id="293" r:id="rId78"/>
    <p:sldId id="294" r:id="rId79"/>
    <p:sldId id="295" r:id="rId8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slide" Target="slides/slide15.xml"/><Relationship Id="rId56" Type="http://schemas.openxmlformats.org/officeDocument/2006/relationships/slide" Target="slides/slide16.xml"/><Relationship Id="rId57" Type="http://schemas.openxmlformats.org/officeDocument/2006/relationships/slide" Target="slides/slide17.xml"/><Relationship Id="rId58" Type="http://schemas.openxmlformats.org/officeDocument/2006/relationships/slide" Target="slides/slide18.xml"/><Relationship Id="rId59" Type="http://schemas.openxmlformats.org/officeDocument/2006/relationships/slide" Target="slides/slide19.xml"/><Relationship Id="rId60" Type="http://schemas.openxmlformats.org/officeDocument/2006/relationships/slide" Target="slides/slide20.xml"/><Relationship Id="rId61" Type="http://schemas.openxmlformats.org/officeDocument/2006/relationships/slide" Target="slides/slide21.xml"/><Relationship Id="rId62" Type="http://schemas.openxmlformats.org/officeDocument/2006/relationships/slide" Target="slides/slide22.xml"/><Relationship Id="rId63" Type="http://schemas.openxmlformats.org/officeDocument/2006/relationships/slide" Target="slides/slide23.xml"/><Relationship Id="rId64" Type="http://schemas.openxmlformats.org/officeDocument/2006/relationships/slide" Target="slides/slide24.xml"/><Relationship Id="rId65" Type="http://schemas.openxmlformats.org/officeDocument/2006/relationships/slide" Target="slides/slide25.xml"/><Relationship Id="rId66" Type="http://schemas.openxmlformats.org/officeDocument/2006/relationships/slide" Target="slides/slide26.xml"/><Relationship Id="rId67" Type="http://schemas.openxmlformats.org/officeDocument/2006/relationships/slide" Target="slides/slide27.xml"/><Relationship Id="rId68" Type="http://schemas.openxmlformats.org/officeDocument/2006/relationships/slide" Target="slides/slide28.xml"/><Relationship Id="rId69" Type="http://schemas.openxmlformats.org/officeDocument/2006/relationships/slide" Target="slides/slide29.xml"/><Relationship Id="rId70" Type="http://schemas.openxmlformats.org/officeDocument/2006/relationships/slide" Target="slides/slide30.xml"/><Relationship Id="rId71" Type="http://schemas.openxmlformats.org/officeDocument/2006/relationships/slide" Target="slides/slide31.xml"/><Relationship Id="rId72" Type="http://schemas.openxmlformats.org/officeDocument/2006/relationships/slide" Target="slides/slide32.xml"/><Relationship Id="rId73" Type="http://schemas.openxmlformats.org/officeDocument/2006/relationships/slide" Target="slides/slide33.xml"/><Relationship Id="rId74" Type="http://schemas.openxmlformats.org/officeDocument/2006/relationships/slide" Target="slides/slide34.xml"/><Relationship Id="rId75" Type="http://schemas.openxmlformats.org/officeDocument/2006/relationships/slide" Target="slides/slide35.xml"/><Relationship Id="rId76" Type="http://schemas.openxmlformats.org/officeDocument/2006/relationships/slide" Target="slides/slide36.xml"/><Relationship Id="rId77" Type="http://schemas.openxmlformats.org/officeDocument/2006/relationships/slide" Target="slides/slide37.xml"/><Relationship Id="rId78" Type="http://schemas.openxmlformats.org/officeDocument/2006/relationships/slide" Target="slides/slide38.xml"/><Relationship Id="rId79" Type="http://schemas.openxmlformats.org/officeDocument/2006/relationships/slide" Target="slides/slide39.xml"/><Relationship Id="rId80" Type="http://schemas.openxmlformats.org/officeDocument/2006/relationships/slide" Target="slides/slide40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6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6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0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&#33539;&#25991;1&#65306;&#26085;&#20986;&#21363;&#26223;.pptx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hyperlink" Target="&#33539;&#25991;2&#65306;&#26085;&#33853;&#21363;&#26223;.pptx" TargetMode="External"/><Relationship Id="rId5" Type="http://schemas.openxmlformats.org/officeDocument/2006/relationships/image" Target="../media/image27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44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5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7" name="文本框 2" descr=""/>
          <p:cNvPicPr/>
          <p:nvPr/>
        </p:nvPicPr>
        <p:blipFill>
          <a:blip r:embed="rId1"/>
          <a:stretch/>
        </p:blipFill>
        <p:spPr>
          <a:xfrm>
            <a:off x="758880" y="1681200"/>
            <a:ext cx="7381800" cy="1989000"/>
          </a:xfrm>
          <a:prstGeom prst="rect">
            <a:avLst/>
          </a:prstGeom>
          <a:ln w="0">
            <a:noFill/>
          </a:ln>
        </p:spPr>
      </p:pic>
      <p:sp>
        <p:nvSpPr>
          <p:cNvPr id="1408" name="矩形 4"/>
          <p:cNvSpPr/>
          <p:nvPr/>
        </p:nvSpPr>
        <p:spPr>
          <a:xfrm>
            <a:off x="755640" y="1206360"/>
            <a:ext cx="1908360" cy="482760"/>
          </a:xfrm>
          <a:prstGeom prst="rect">
            <a:avLst/>
          </a:prstGeom>
          <a:gradFill rotWithShape="0">
            <a:gsLst>
              <a:gs pos="0">
                <a:srgbClr val="9e9db1"/>
              </a:gs>
              <a:gs pos="100000">
                <a:srgbClr val="d0cfe9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说一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文本框 3"/>
          <p:cNvSpPr/>
          <p:nvPr/>
        </p:nvSpPr>
        <p:spPr>
          <a:xfrm>
            <a:off x="3032280" y="979560"/>
            <a:ext cx="26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即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2"/>
          <p:cNvSpPr/>
          <p:nvPr/>
        </p:nvSpPr>
        <p:spPr>
          <a:xfrm>
            <a:off x="1285920" y="1917720"/>
            <a:ext cx="636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景是一种创作手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眼前的景物吟诗、作文或绘画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左大括号 1"/>
          <p:cNvSpPr/>
          <p:nvPr/>
        </p:nvSpPr>
        <p:spPr>
          <a:xfrm rot="16200000">
            <a:off x="2461320" y="1991160"/>
            <a:ext cx="250920" cy="1760760"/>
          </a:xfrm>
          <a:custGeom>
            <a:avLst/>
            <a:gdLst>
              <a:gd name="textAreaLeft" fmla="*/ 160200 w 250920"/>
              <a:gd name="textAreaRight" fmla="*/ 251280 w 250920"/>
              <a:gd name="textAreaTop" fmla="*/ 6480 h 1760760"/>
              <a:gd name="textAreaBottom" fmla="*/ 1754280 h 176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8"/>
                  <a:pt x="10800" y="256"/>
                </a:cubicBezTo>
                <a:lnTo>
                  <a:pt x="10800" y="10544"/>
                </a:lnTo>
                <a:cubicBezTo>
                  <a:pt x="10800" y="10672"/>
                  <a:pt x="5400" y="10800"/>
                  <a:pt x="0" y="10800"/>
                </a:cubicBezTo>
                <a:cubicBezTo>
                  <a:pt x="5400" y="10800"/>
                  <a:pt x="10800" y="10928"/>
                  <a:pt x="10800" y="11056"/>
                </a:cubicBezTo>
                <a:lnTo>
                  <a:pt x="10800" y="21344"/>
                </a:lnTo>
                <a:cubicBezTo>
                  <a:pt x="10800" y="2147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文本框 4"/>
          <p:cNvSpPr/>
          <p:nvPr/>
        </p:nvSpPr>
        <p:spPr>
          <a:xfrm>
            <a:off x="1838160" y="3086280"/>
            <a:ext cx="15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写作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TextBox 1" descr=""/>
          <p:cNvPicPr/>
          <p:nvPr/>
        </p:nvPicPr>
        <p:blipFill>
          <a:blip r:embed="rId1"/>
          <a:stretch/>
        </p:blipFill>
        <p:spPr>
          <a:xfrm>
            <a:off x="1981080" y="1274760"/>
            <a:ext cx="5381640" cy="1362240"/>
          </a:xfrm>
          <a:prstGeom prst="rect">
            <a:avLst/>
          </a:prstGeom>
          <a:ln w="0">
            <a:noFill/>
          </a:ln>
        </p:spPr>
      </p:pic>
      <p:pic>
        <p:nvPicPr>
          <p:cNvPr id="1449" name="图片 2" descr=""/>
          <p:cNvPicPr/>
          <p:nvPr/>
        </p:nvPicPr>
        <p:blipFill>
          <a:blip r:embed="rId2"/>
          <a:stretch/>
        </p:blipFill>
        <p:spPr>
          <a:xfrm>
            <a:off x="287280" y="1276200"/>
            <a:ext cx="1693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文本框 3"/>
          <p:cNvSpPr/>
          <p:nvPr/>
        </p:nvSpPr>
        <p:spPr>
          <a:xfrm>
            <a:off x="1996920" y="1105920"/>
            <a:ext cx="797040" cy="4597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写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文本框 1"/>
          <p:cNvSpPr/>
          <p:nvPr/>
        </p:nvSpPr>
        <p:spPr>
          <a:xfrm>
            <a:off x="1979640" y="1644120"/>
            <a:ext cx="491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风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风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风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文本框 7"/>
          <p:cNvSpPr/>
          <p:nvPr/>
        </p:nvSpPr>
        <p:spPr>
          <a:xfrm>
            <a:off x="1940040" y="2341800"/>
            <a:ext cx="1109520" cy="4597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写日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文本框 8"/>
          <p:cNvSpPr/>
          <p:nvPr/>
        </p:nvSpPr>
        <p:spPr>
          <a:xfrm>
            <a:off x="1903320" y="2909520"/>
            <a:ext cx="57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空变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太阳慢慢变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片光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文本框 3"/>
          <p:cNvSpPr/>
          <p:nvPr/>
        </p:nvSpPr>
        <p:spPr>
          <a:xfrm>
            <a:off x="1463760" y="1152000"/>
            <a:ext cx="1127160" cy="4597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写树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文本框 1"/>
          <p:cNvSpPr/>
          <p:nvPr/>
        </p:nvSpPr>
        <p:spPr>
          <a:xfrm>
            <a:off x="1436760" y="1603800"/>
            <a:ext cx="65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树林里阳光的变化，小河的流淌，动静的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文本框 7"/>
          <p:cNvSpPr/>
          <p:nvPr/>
        </p:nvSpPr>
        <p:spPr>
          <a:xfrm>
            <a:off x="1473120" y="2301480"/>
            <a:ext cx="1109880" cy="4597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写草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文本框 8"/>
          <p:cNvSpPr/>
          <p:nvPr/>
        </p:nvSpPr>
        <p:spPr>
          <a:xfrm>
            <a:off x="1436760" y="288972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间转换，草的颜色品种，草的疏密程度 有多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TextBox 1" descr=""/>
          <p:cNvPicPr/>
          <p:nvPr/>
        </p:nvPicPr>
        <p:blipFill>
          <a:blip r:embed="rId1"/>
          <a:stretch/>
        </p:blipFill>
        <p:spPr>
          <a:xfrm>
            <a:off x="1670040" y="1096920"/>
            <a:ext cx="7070760" cy="2008080"/>
          </a:xfrm>
          <a:prstGeom prst="rect">
            <a:avLst/>
          </a:prstGeom>
          <a:ln w="0">
            <a:noFill/>
          </a:ln>
        </p:spPr>
      </p:pic>
      <p:pic>
        <p:nvPicPr>
          <p:cNvPr id="1459" name="图片 2" descr=""/>
          <p:cNvPicPr/>
          <p:nvPr/>
        </p:nvPicPr>
        <p:blipFill>
          <a:blip r:embed="rId2"/>
          <a:stretch/>
        </p:blipFill>
        <p:spPr>
          <a:xfrm>
            <a:off x="287280" y="1276200"/>
            <a:ext cx="1693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文本框 3"/>
          <p:cNvSpPr/>
          <p:nvPr/>
        </p:nvSpPr>
        <p:spPr>
          <a:xfrm>
            <a:off x="2052720" y="802800"/>
            <a:ext cx="49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面补充完整你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观察记录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1" name=""/>
          <p:cNvGraphicFramePr/>
          <p:nvPr/>
        </p:nvGraphicFramePr>
        <p:xfrm>
          <a:off x="971640" y="1609560"/>
          <a:ext cx="6886440" cy="1765440"/>
        </p:xfrm>
        <a:graphic>
          <a:graphicData uri="http://schemas.openxmlformats.org/drawingml/2006/table">
            <a:tbl>
              <a:tblPr/>
              <a:tblGrid>
                <a:gridCol w="1147680"/>
                <a:gridCol w="1147680"/>
                <a:gridCol w="1148040"/>
                <a:gridCol w="1147680"/>
                <a:gridCol w="1147680"/>
                <a:gridCol w="1147680"/>
              </a:tblGrid>
              <a:tr h="880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观察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观察地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景观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观察顺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景物变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62" name="文本框 7"/>
          <p:cNvSpPr/>
          <p:nvPr/>
        </p:nvSpPr>
        <p:spPr>
          <a:xfrm>
            <a:off x="2281320" y="186012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早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文本框 8"/>
          <p:cNvSpPr/>
          <p:nvPr/>
        </p:nvSpPr>
        <p:spPr>
          <a:xfrm>
            <a:off x="4524480" y="18601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楼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文本框 9"/>
          <p:cNvSpPr/>
          <p:nvPr/>
        </p:nvSpPr>
        <p:spPr>
          <a:xfrm>
            <a:off x="6862680" y="18601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日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文本框 10"/>
          <p:cNvSpPr/>
          <p:nvPr/>
        </p:nvSpPr>
        <p:spPr>
          <a:xfrm>
            <a:off x="2281320" y="26679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文本框 11"/>
          <p:cNvSpPr/>
          <p:nvPr/>
        </p:nvSpPr>
        <p:spPr>
          <a:xfrm>
            <a:off x="4524480" y="2667960"/>
            <a:ext cx="32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太阳随着时间慢慢变大变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文本框 3"/>
          <p:cNvSpPr/>
          <p:nvPr/>
        </p:nvSpPr>
        <p:spPr>
          <a:xfrm>
            <a:off x="2052720" y="802800"/>
            <a:ext cx="49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面补充完整你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观察记录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8" name=""/>
          <p:cNvGraphicFramePr/>
          <p:nvPr/>
        </p:nvGraphicFramePr>
        <p:xfrm>
          <a:off x="971640" y="1609560"/>
          <a:ext cx="6886440" cy="1765440"/>
        </p:xfrm>
        <a:graphic>
          <a:graphicData uri="http://schemas.openxmlformats.org/drawingml/2006/table">
            <a:tbl>
              <a:tblPr/>
              <a:tblGrid>
                <a:gridCol w="1147680"/>
                <a:gridCol w="1147680"/>
                <a:gridCol w="1148040"/>
                <a:gridCol w="1147680"/>
                <a:gridCol w="1147680"/>
                <a:gridCol w="1147680"/>
              </a:tblGrid>
              <a:tr h="880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观察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观察地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景观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观察顺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景物变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69" name="文本框 7"/>
          <p:cNvSpPr/>
          <p:nvPr/>
        </p:nvSpPr>
        <p:spPr>
          <a:xfrm>
            <a:off x="2281320" y="186012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下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文本框 8"/>
          <p:cNvSpPr/>
          <p:nvPr/>
        </p:nvSpPr>
        <p:spPr>
          <a:xfrm>
            <a:off x="4524480" y="18601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树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文本框 9"/>
          <p:cNvSpPr/>
          <p:nvPr/>
        </p:nvSpPr>
        <p:spPr>
          <a:xfrm>
            <a:off x="6862680" y="18601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落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文本框 10"/>
          <p:cNvSpPr/>
          <p:nvPr/>
        </p:nvSpPr>
        <p:spPr>
          <a:xfrm>
            <a:off x="2281320" y="2485080"/>
            <a:ext cx="9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空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文本框 11"/>
          <p:cNvSpPr/>
          <p:nvPr/>
        </p:nvSpPr>
        <p:spPr>
          <a:xfrm>
            <a:off x="4524480" y="2697480"/>
            <a:ext cx="32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落叶从树上落到地上，树上越来越少，地上反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文本框 3"/>
          <p:cNvSpPr/>
          <p:nvPr/>
        </p:nvSpPr>
        <p:spPr>
          <a:xfrm>
            <a:off x="2052720" y="802800"/>
            <a:ext cx="49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面补充完整你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观察记录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5" name=""/>
          <p:cNvGraphicFramePr/>
          <p:nvPr/>
        </p:nvGraphicFramePr>
        <p:xfrm>
          <a:off x="971640" y="1609560"/>
          <a:ext cx="6886440" cy="1765440"/>
        </p:xfrm>
        <a:graphic>
          <a:graphicData uri="http://schemas.openxmlformats.org/drawingml/2006/table">
            <a:tbl>
              <a:tblPr/>
              <a:tblGrid>
                <a:gridCol w="1147680"/>
                <a:gridCol w="1147680"/>
                <a:gridCol w="1148040"/>
                <a:gridCol w="1147680"/>
                <a:gridCol w="1147680"/>
                <a:gridCol w="1147680"/>
              </a:tblGrid>
              <a:tr h="880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观察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观察地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景观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观察顺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景物变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6" name="文本框 7"/>
          <p:cNvSpPr/>
          <p:nvPr/>
        </p:nvSpPr>
        <p:spPr>
          <a:xfrm>
            <a:off x="2281320" y="186012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早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文本框 8"/>
          <p:cNvSpPr/>
          <p:nvPr/>
        </p:nvSpPr>
        <p:spPr>
          <a:xfrm>
            <a:off x="4524480" y="18601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窗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文本框 9"/>
          <p:cNvSpPr/>
          <p:nvPr/>
        </p:nvSpPr>
        <p:spPr>
          <a:xfrm>
            <a:off x="6862680" y="18601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窗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文本框 10"/>
          <p:cNvSpPr/>
          <p:nvPr/>
        </p:nvSpPr>
        <p:spPr>
          <a:xfrm>
            <a:off x="2281320" y="26679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文本框 11"/>
          <p:cNvSpPr/>
          <p:nvPr/>
        </p:nvSpPr>
        <p:spPr>
          <a:xfrm>
            <a:off x="4524480" y="254520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窗花慢慢融化，化成水珠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窗外景物越来越清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2" descr=""/>
          <p:cNvPicPr/>
          <p:nvPr/>
        </p:nvPicPr>
        <p:blipFill>
          <a:blip r:embed="rId1"/>
          <a:stretch/>
        </p:blipFill>
        <p:spPr>
          <a:xfrm>
            <a:off x="1206360" y="592200"/>
            <a:ext cx="6909120" cy="4062240"/>
          </a:xfrm>
          <a:prstGeom prst="rect">
            <a:avLst/>
          </a:prstGeom>
          <a:ln w="0">
            <a:noFill/>
          </a:ln>
        </p:spPr>
      </p:pic>
      <p:sp>
        <p:nvSpPr>
          <p:cNvPr id="1482" name="文本框 3"/>
          <p:cNvSpPr/>
          <p:nvPr/>
        </p:nvSpPr>
        <p:spPr>
          <a:xfrm>
            <a:off x="3406680" y="1274760"/>
            <a:ext cx="39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对题目理解深刻后，思路也打开了。下面就是我们该如何写的问题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文本框 4"/>
          <p:cNvSpPr/>
          <p:nvPr/>
        </p:nvSpPr>
        <p:spPr>
          <a:xfrm>
            <a:off x="749160" y="77724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请看课文的段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文本框 3"/>
          <p:cNvSpPr/>
          <p:nvPr/>
        </p:nvSpPr>
        <p:spPr>
          <a:xfrm>
            <a:off x="501480" y="1856880"/>
            <a:ext cx="8089920" cy="1008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片段一：春天最美是黎明。东方一点儿一点儿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泛着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鱼肚色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的天空，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染上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微微的红晕，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飘着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红紫红紫的彩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片段二：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我们看时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，那竹窗帘儿里果然有了月亮，款款地悄没声儿地溜进来，出现在高前的穿衣镜上了：原来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月亮是长了腿的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，爬着那珠帘格儿，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先是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一个白道儿，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再是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半圆，渐渐地爬得高了，穿衣镜上的圆便满盈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文本框 7"/>
          <p:cNvSpPr/>
          <p:nvPr/>
        </p:nvSpPr>
        <p:spPr>
          <a:xfrm>
            <a:off x="851040" y="3930840"/>
            <a:ext cx="75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写动态变化时可以使用恰当的动间，从景物的形状、颜色等方面的变化来写；还可以使用“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表示时间顺序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对话气泡: 圆角矩形 5"/>
          <p:cNvSpPr/>
          <p:nvPr/>
        </p:nvSpPr>
        <p:spPr>
          <a:xfrm>
            <a:off x="4424400" y="824040"/>
            <a:ext cx="1343160" cy="368280"/>
          </a:xfrm>
          <a:prstGeom prst="wedgeRoundRectCallout">
            <a:avLst>
              <a:gd name="adj1" fmla="val 50356"/>
              <a:gd name="adj2" fmla="val 100212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运用动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对话气泡: 圆角矩形 6"/>
          <p:cNvSpPr/>
          <p:nvPr/>
        </p:nvSpPr>
        <p:spPr>
          <a:xfrm>
            <a:off x="1973160" y="3078000"/>
            <a:ext cx="2276640" cy="368640"/>
          </a:xfrm>
          <a:prstGeom prst="wedgeRoundRectCallout">
            <a:avLst>
              <a:gd name="adj1" fmla="val -37263"/>
              <a:gd name="adj2" fmla="val -96476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表示顺序变化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对话气泡: 圆角矩形 8"/>
          <p:cNvSpPr/>
          <p:nvPr/>
        </p:nvSpPr>
        <p:spPr>
          <a:xfrm>
            <a:off x="6067440" y="485640"/>
            <a:ext cx="1800360" cy="574920"/>
          </a:xfrm>
          <a:prstGeom prst="wedgeRoundRectCallout">
            <a:avLst>
              <a:gd name="adj1" fmla="val -25791"/>
              <a:gd name="adj2" fmla="val 119337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描写色彩、气味、触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对话气泡: 圆角矩形 9"/>
          <p:cNvSpPr/>
          <p:nvPr/>
        </p:nvSpPr>
        <p:spPr>
          <a:xfrm>
            <a:off x="5008680" y="3086280"/>
            <a:ext cx="2487600" cy="368280"/>
          </a:xfrm>
          <a:prstGeom prst="wedgeRoundRectCallout">
            <a:avLst>
              <a:gd name="adj1" fmla="val 19842"/>
              <a:gd name="adj2" fmla="val -156574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使用生动的修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9" name="Picture 2" descr="http://photos.tuchong.com/39416/f/7117552.jpg"/>
          <p:cNvPicPr/>
          <p:nvPr/>
        </p:nvPicPr>
        <p:blipFill>
          <a:blip r:embed="rId1"/>
          <a:stretch/>
        </p:blipFill>
        <p:spPr>
          <a:xfrm>
            <a:off x="1690560" y="644400"/>
            <a:ext cx="5467320" cy="3632400"/>
          </a:xfrm>
          <a:prstGeom prst="rect">
            <a:avLst/>
          </a:prstGeom>
          <a:ln w="0">
            <a:noFill/>
          </a:ln>
        </p:spPr>
      </p:pic>
      <p:pic>
        <p:nvPicPr>
          <p:cNvPr id="1410" name="文本框 4" descr=""/>
          <p:cNvPicPr/>
          <p:nvPr/>
        </p:nvPicPr>
        <p:blipFill>
          <a:blip r:embed="rId2"/>
          <a:stretch/>
        </p:blipFill>
        <p:spPr>
          <a:xfrm>
            <a:off x="1936800" y="738360"/>
            <a:ext cx="2863800" cy="64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文本框 3"/>
          <p:cNvSpPr/>
          <p:nvPr/>
        </p:nvSpPr>
        <p:spPr>
          <a:xfrm>
            <a:off x="426960" y="536040"/>
            <a:ext cx="78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面模仿课文自己写一段话，描写一下落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文本框 4"/>
          <p:cNvSpPr/>
          <p:nvPr/>
        </p:nvSpPr>
        <p:spPr>
          <a:xfrm>
            <a:off x="568440" y="251568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太阳极力从云层里探出脑袋，一会儿张开红彤彤的脸，一会儿又露出橘黄色的笑容。火红时像一个大红球，橘黄时像一个大橘子。慢慢地，太阳收起那刺眼的光芒，像一个害羞的小姑娘，脸蛋像涂了胭脂似的。周围的云朵也跟着它涂上了红妆。过了一会儿，阳光变弱了。它旁边的云朵在变化着各种颜色，仿佛是一位画家把他那五彩的颜料一不小心泼洒在天上。红色的，灰色的，粉红色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五光十色。一瞬间，晚霞铺了半个天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TextBox 1" descr=""/>
          <p:cNvPicPr/>
          <p:nvPr/>
        </p:nvPicPr>
        <p:blipFill>
          <a:blip r:embed="rId1"/>
          <a:stretch/>
        </p:blipFill>
        <p:spPr>
          <a:xfrm>
            <a:off x="1739880" y="1639800"/>
            <a:ext cx="6726240" cy="1300320"/>
          </a:xfrm>
          <a:prstGeom prst="rect">
            <a:avLst/>
          </a:prstGeom>
          <a:ln w="0">
            <a:noFill/>
          </a:ln>
        </p:spPr>
      </p:pic>
      <p:pic>
        <p:nvPicPr>
          <p:cNvPr id="1493" name="图片 2" descr=""/>
          <p:cNvPicPr/>
          <p:nvPr/>
        </p:nvPicPr>
        <p:blipFill>
          <a:blip r:embed="rId2"/>
          <a:stretch/>
        </p:blipFill>
        <p:spPr>
          <a:xfrm>
            <a:off x="287280" y="1276200"/>
            <a:ext cx="1693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文本框 2"/>
          <p:cNvSpPr/>
          <p:nvPr/>
        </p:nvSpPr>
        <p:spPr>
          <a:xfrm>
            <a:off x="250920" y="752400"/>
            <a:ext cx="8694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次作文引导我们用发展变化的眼光看世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要善于发现变化并描写出这个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5" name="图片 2" descr=""/>
          <p:cNvPicPr/>
          <p:nvPr/>
        </p:nvPicPr>
        <p:blipFill>
          <a:blip r:embed="rId1"/>
          <a:stretch/>
        </p:blipFill>
        <p:spPr>
          <a:xfrm>
            <a:off x="7939080" y="476280"/>
            <a:ext cx="1204920" cy="1774800"/>
          </a:xfrm>
          <a:prstGeom prst="rect">
            <a:avLst/>
          </a:prstGeom>
          <a:ln w="0">
            <a:noFill/>
          </a:ln>
        </p:spPr>
      </p:pic>
      <p:sp>
        <p:nvSpPr>
          <p:cNvPr id="1496" name="文本框 2"/>
          <p:cNvSpPr/>
          <p:nvPr/>
        </p:nvSpPr>
        <p:spPr>
          <a:xfrm>
            <a:off x="236520" y="1844640"/>
            <a:ext cx="80024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时间，不同地点，景物都是不相同的，我在写作中要突显这些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7" name="Picture 3" descr=""/>
          <p:cNvPicPr/>
          <p:nvPr/>
        </p:nvPicPr>
        <p:blipFill>
          <a:blip r:embed="rId2"/>
          <a:stretch/>
        </p:blipFill>
        <p:spPr>
          <a:xfrm>
            <a:off x="7967520" y="1773360"/>
            <a:ext cx="1270080" cy="1096920"/>
          </a:xfrm>
          <a:prstGeom prst="rect">
            <a:avLst/>
          </a:prstGeom>
          <a:ln w="0">
            <a:noFill/>
          </a:ln>
        </p:spPr>
      </p:pic>
      <p:sp>
        <p:nvSpPr>
          <p:cNvPr id="1498" name="文本框 2"/>
          <p:cNvSpPr/>
          <p:nvPr/>
        </p:nvSpPr>
        <p:spPr>
          <a:xfrm>
            <a:off x="254160" y="3213000"/>
            <a:ext cx="84945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会向课文学习，用上动态词语，用上表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或方位变化的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Picture 2" descr=""/>
          <p:cNvPicPr/>
          <p:nvPr/>
        </p:nvPicPr>
        <p:blipFill>
          <a:blip r:embed="rId3"/>
          <a:srcRect l="24388" t="7095" r="24763" b="46461"/>
          <a:stretch/>
        </p:blipFill>
        <p:spPr>
          <a:xfrm>
            <a:off x="8043840" y="3213000"/>
            <a:ext cx="93204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黑体"/>
                <a:ea typeface="黑体"/>
              </a:rPr>
              <a:t>写作提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1" name="图片 3" descr=""/>
          <p:cNvPicPr/>
          <p:nvPr/>
        </p:nvPicPr>
        <p:blipFill>
          <a:blip r:embed="rId1"/>
          <a:stretch/>
        </p:blipFill>
        <p:spPr>
          <a:xfrm>
            <a:off x="1808280" y="1690560"/>
            <a:ext cx="154440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图片 5" descr=""/>
          <p:cNvPicPr/>
          <p:nvPr/>
        </p:nvPicPr>
        <p:blipFill>
          <a:blip r:embed="rId1"/>
          <a:stretch/>
        </p:blipFill>
        <p:spPr>
          <a:xfrm>
            <a:off x="741240" y="290520"/>
            <a:ext cx="7510680" cy="4414680"/>
          </a:xfrm>
          <a:prstGeom prst="rect">
            <a:avLst/>
          </a:prstGeom>
          <a:ln w="0">
            <a:noFill/>
          </a:ln>
        </p:spPr>
      </p:pic>
      <p:sp>
        <p:nvSpPr>
          <p:cNvPr id="1503" name="文本框 8"/>
          <p:cNvSpPr/>
          <p:nvPr/>
        </p:nvSpPr>
        <p:spPr>
          <a:xfrm>
            <a:off x="3297240" y="907920"/>
            <a:ext cx="41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你想好自己的作文内容了吗？不要急于下笔，先好好构思，编写好写作提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矩形 1"/>
          <p:cNvSpPr/>
          <p:nvPr/>
        </p:nvSpPr>
        <p:spPr>
          <a:xfrm>
            <a:off x="1895400" y="1704960"/>
            <a:ext cx="4900680" cy="2288520"/>
          </a:xfrm>
          <a:prstGeom prst="rect">
            <a:avLst/>
          </a:prstGeom>
          <a:solidFill>
            <a:srgbClr val="e7e7ef"/>
          </a:solidFill>
          <a:ln w="57240">
            <a:solidFill>
              <a:srgbClr val="cccc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打算选取什么景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什么样的顺序写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它有哪些变化？你如何连缀起它的这些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会重点写变化的哪一部分？使用上哪些动词、关联词和修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打算如何将题目补充完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2"/>
          <p:cNvSpPr/>
          <p:nvPr/>
        </p:nvSpPr>
        <p:spPr>
          <a:xfrm>
            <a:off x="3191040" y="268200"/>
            <a:ext cx="34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习作提纲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4"/>
          <p:cNvSpPr/>
          <p:nvPr/>
        </p:nvSpPr>
        <p:spPr>
          <a:xfrm>
            <a:off x="4359960" y="1012680"/>
            <a:ext cx="782640" cy="459720"/>
          </a:xfrm>
          <a:prstGeom prst="rect">
            <a:avLst/>
          </a:prstGeom>
          <a:solidFill>
            <a:srgbClr val="f0eff7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一个自然现象或景观，写出景物的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7" name="组合 2"/>
          <p:cNvGrpSpPr/>
          <p:nvPr/>
        </p:nvGrpSpPr>
        <p:grpSpPr>
          <a:xfrm>
            <a:off x="1473120" y="768240"/>
            <a:ext cx="1360440" cy="666720"/>
            <a:chOff x="1473120" y="768240"/>
            <a:chExt cx="1360440" cy="666720"/>
          </a:xfrm>
        </p:grpSpPr>
        <p:sp>
          <p:nvSpPr>
            <p:cNvPr id="1508" name="云形 3"/>
            <p:cNvSpPr/>
            <p:nvPr/>
          </p:nvSpPr>
          <p:spPr>
            <a:xfrm>
              <a:off x="1473120" y="76824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TextBox 4"/>
            <p:cNvSpPr/>
            <p:nvPr/>
          </p:nvSpPr>
          <p:spPr>
            <a:xfrm>
              <a:off x="1618920" y="78984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0" name="文本框 2"/>
          <p:cNvSpPr/>
          <p:nvPr/>
        </p:nvSpPr>
        <p:spPr>
          <a:xfrm>
            <a:off x="374760" y="1292400"/>
            <a:ext cx="63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晨雾即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左大括号 1"/>
          <p:cNvSpPr/>
          <p:nvPr/>
        </p:nvSpPr>
        <p:spPr>
          <a:xfrm>
            <a:off x="963720" y="1036800"/>
            <a:ext cx="288720" cy="333360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3333600"/>
              <a:gd name="textAreaBottom" fmla="*/ 3326400 h 333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"/>
                  <a:pt x="10800" y="155"/>
                </a:cubicBezTo>
                <a:lnTo>
                  <a:pt x="10800" y="10645"/>
                </a:lnTo>
                <a:cubicBezTo>
                  <a:pt x="10800" y="10723"/>
                  <a:pt x="5400" y="10800"/>
                  <a:pt x="0" y="10800"/>
                </a:cubicBezTo>
                <a:cubicBezTo>
                  <a:pt x="5400" y="10800"/>
                  <a:pt x="10800" y="10878"/>
                  <a:pt x="10800" y="10955"/>
                </a:cubicBezTo>
                <a:lnTo>
                  <a:pt x="10800" y="21445"/>
                </a:lnTo>
                <a:cubicBezTo>
                  <a:pt x="10800" y="215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2" name="组合 8"/>
          <p:cNvGrpSpPr/>
          <p:nvPr/>
        </p:nvGrpSpPr>
        <p:grpSpPr>
          <a:xfrm>
            <a:off x="1473120" y="1838160"/>
            <a:ext cx="1317600" cy="733680"/>
            <a:chOff x="1473120" y="1838160"/>
            <a:chExt cx="1317600" cy="733680"/>
          </a:xfrm>
        </p:grpSpPr>
        <p:sp>
          <p:nvSpPr>
            <p:cNvPr id="1513" name="云形 9"/>
            <p:cNvSpPr/>
            <p:nvPr/>
          </p:nvSpPr>
          <p:spPr>
            <a:xfrm>
              <a:off x="1473120" y="1839960"/>
              <a:ext cx="1317600" cy="7318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TextBox 10"/>
            <p:cNvSpPr/>
            <p:nvPr/>
          </p:nvSpPr>
          <p:spPr>
            <a:xfrm>
              <a:off x="1621800" y="1838160"/>
              <a:ext cx="116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组合 12"/>
          <p:cNvGrpSpPr/>
          <p:nvPr/>
        </p:nvGrpSpPr>
        <p:grpSpPr>
          <a:xfrm>
            <a:off x="1494000" y="3763800"/>
            <a:ext cx="1276200" cy="667080"/>
            <a:chOff x="1494000" y="3763800"/>
            <a:chExt cx="1276200" cy="667080"/>
          </a:xfrm>
        </p:grpSpPr>
        <p:sp>
          <p:nvSpPr>
            <p:cNvPr id="1516" name="云形 13"/>
            <p:cNvSpPr/>
            <p:nvPr/>
          </p:nvSpPr>
          <p:spPr>
            <a:xfrm>
              <a:off x="1494000" y="3763800"/>
              <a:ext cx="1276200" cy="667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TextBox 14"/>
            <p:cNvSpPr/>
            <p:nvPr/>
          </p:nvSpPr>
          <p:spPr>
            <a:xfrm>
              <a:off x="1639800" y="3785760"/>
              <a:ext cx="11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8" name="左大括号 15"/>
          <p:cNvSpPr/>
          <p:nvPr/>
        </p:nvSpPr>
        <p:spPr>
          <a:xfrm>
            <a:off x="2948040" y="1590840"/>
            <a:ext cx="306360" cy="158400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584000"/>
              <a:gd name="textAreaBottom" fmla="*/ 157608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4"/>
                  <a:pt x="10800" y="348"/>
                </a:cubicBezTo>
                <a:lnTo>
                  <a:pt x="10800" y="7439"/>
                </a:lnTo>
                <a:cubicBezTo>
                  <a:pt x="10800" y="7613"/>
                  <a:pt x="5400" y="7787"/>
                  <a:pt x="0" y="7787"/>
                </a:cubicBezTo>
                <a:cubicBezTo>
                  <a:pt x="5400" y="7787"/>
                  <a:pt x="10800" y="7961"/>
                  <a:pt x="10800" y="8135"/>
                </a:cubicBezTo>
                <a:lnTo>
                  <a:pt x="10800" y="21252"/>
                </a:lnTo>
                <a:cubicBezTo>
                  <a:pt x="10800" y="2142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Box 19"/>
          <p:cNvSpPr/>
          <p:nvPr/>
        </p:nvSpPr>
        <p:spPr>
          <a:xfrm>
            <a:off x="3254400" y="1430280"/>
            <a:ext cx="50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雾中景象，朦胧看不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Box 21"/>
          <p:cNvSpPr/>
          <p:nvPr/>
        </p:nvSpPr>
        <p:spPr>
          <a:xfrm>
            <a:off x="3254400" y="2082960"/>
            <a:ext cx="54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我在雾中仙境漫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Box 28"/>
          <p:cNvSpPr/>
          <p:nvPr/>
        </p:nvSpPr>
        <p:spPr>
          <a:xfrm>
            <a:off x="3102120" y="3803760"/>
            <a:ext cx="38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自己陶醉的心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Box 23"/>
          <p:cNvSpPr/>
          <p:nvPr/>
        </p:nvSpPr>
        <p:spPr>
          <a:xfrm>
            <a:off x="3054240" y="698400"/>
            <a:ext cx="57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觉醒来，发现起雾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Box 21"/>
          <p:cNvSpPr/>
          <p:nvPr/>
        </p:nvSpPr>
        <p:spPr>
          <a:xfrm>
            <a:off x="3254400" y="2714760"/>
            <a:ext cx="54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雾散后的景象，一切都明朗起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4" name="组合 2"/>
          <p:cNvGrpSpPr/>
          <p:nvPr/>
        </p:nvGrpSpPr>
        <p:grpSpPr>
          <a:xfrm>
            <a:off x="1473120" y="768240"/>
            <a:ext cx="1360440" cy="666720"/>
            <a:chOff x="1473120" y="768240"/>
            <a:chExt cx="1360440" cy="666720"/>
          </a:xfrm>
        </p:grpSpPr>
        <p:sp>
          <p:nvSpPr>
            <p:cNvPr id="1525" name="云形 3"/>
            <p:cNvSpPr/>
            <p:nvPr/>
          </p:nvSpPr>
          <p:spPr>
            <a:xfrm>
              <a:off x="1473120" y="76824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TextBox 4"/>
            <p:cNvSpPr/>
            <p:nvPr/>
          </p:nvSpPr>
          <p:spPr>
            <a:xfrm>
              <a:off x="1618920" y="78984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7" name="文本框 2"/>
          <p:cNvSpPr/>
          <p:nvPr/>
        </p:nvSpPr>
        <p:spPr>
          <a:xfrm>
            <a:off x="363600" y="1647720"/>
            <a:ext cx="63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即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左大括号 1"/>
          <p:cNvSpPr/>
          <p:nvPr/>
        </p:nvSpPr>
        <p:spPr>
          <a:xfrm>
            <a:off x="963720" y="1036800"/>
            <a:ext cx="288720" cy="333360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3333600"/>
              <a:gd name="textAreaBottom" fmla="*/ 3326400 h 333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"/>
                  <a:pt x="10800" y="155"/>
                </a:cubicBezTo>
                <a:lnTo>
                  <a:pt x="10800" y="10645"/>
                </a:lnTo>
                <a:cubicBezTo>
                  <a:pt x="10800" y="10723"/>
                  <a:pt x="5400" y="10800"/>
                  <a:pt x="0" y="10800"/>
                </a:cubicBezTo>
                <a:cubicBezTo>
                  <a:pt x="5400" y="10800"/>
                  <a:pt x="10800" y="10878"/>
                  <a:pt x="10800" y="10955"/>
                </a:cubicBezTo>
                <a:lnTo>
                  <a:pt x="10800" y="21445"/>
                </a:lnTo>
                <a:cubicBezTo>
                  <a:pt x="10800" y="215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9" name="组合 8"/>
          <p:cNvGrpSpPr/>
          <p:nvPr/>
        </p:nvGrpSpPr>
        <p:grpSpPr>
          <a:xfrm>
            <a:off x="1419120" y="1836720"/>
            <a:ext cx="1317600" cy="733320"/>
            <a:chOff x="1419120" y="1836720"/>
            <a:chExt cx="1317600" cy="733320"/>
          </a:xfrm>
        </p:grpSpPr>
        <p:sp>
          <p:nvSpPr>
            <p:cNvPr id="1530" name="云形 9"/>
            <p:cNvSpPr/>
            <p:nvPr/>
          </p:nvSpPr>
          <p:spPr>
            <a:xfrm>
              <a:off x="1419120" y="1838520"/>
              <a:ext cx="1317600" cy="7315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TextBox 10"/>
            <p:cNvSpPr/>
            <p:nvPr/>
          </p:nvSpPr>
          <p:spPr>
            <a:xfrm>
              <a:off x="1567800" y="1836720"/>
              <a:ext cx="116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组合 12"/>
          <p:cNvGrpSpPr/>
          <p:nvPr/>
        </p:nvGrpSpPr>
        <p:grpSpPr>
          <a:xfrm>
            <a:off x="1514520" y="3745080"/>
            <a:ext cx="1276200" cy="666720"/>
            <a:chOff x="1514520" y="3745080"/>
            <a:chExt cx="1276200" cy="666720"/>
          </a:xfrm>
        </p:grpSpPr>
        <p:sp>
          <p:nvSpPr>
            <p:cNvPr id="1533" name="云形 13"/>
            <p:cNvSpPr/>
            <p:nvPr/>
          </p:nvSpPr>
          <p:spPr>
            <a:xfrm>
              <a:off x="1514520" y="3745080"/>
              <a:ext cx="127620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TextBox 14"/>
            <p:cNvSpPr/>
            <p:nvPr/>
          </p:nvSpPr>
          <p:spPr>
            <a:xfrm>
              <a:off x="1660320" y="3766680"/>
              <a:ext cx="11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5" name="左大括号 15"/>
          <p:cNvSpPr/>
          <p:nvPr/>
        </p:nvSpPr>
        <p:spPr>
          <a:xfrm>
            <a:off x="2948040" y="1590840"/>
            <a:ext cx="306360" cy="158400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584000"/>
              <a:gd name="textAreaBottom" fmla="*/ 157608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4"/>
                  <a:pt x="10800" y="348"/>
                </a:cubicBezTo>
                <a:lnTo>
                  <a:pt x="10800" y="7439"/>
                </a:lnTo>
                <a:cubicBezTo>
                  <a:pt x="10800" y="7613"/>
                  <a:pt x="5400" y="7787"/>
                  <a:pt x="0" y="7787"/>
                </a:cubicBezTo>
                <a:cubicBezTo>
                  <a:pt x="5400" y="7787"/>
                  <a:pt x="10800" y="7961"/>
                  <a:pt x="10800" y="8135"/>
                </a:cubicBezTo>
                <a:lnTo>
                  <a:pt x="10800" y="21252"/>
                </a:lnTo>
                <a:cubicBezTo>
                  <a:pt x="10800" y="2142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Box 19"/>
          <p:cNvSpPr/>
          <p:nvPr/>
        </p:nvSpPr>
        <p:spPr>
          <a:xfrm>
            <a:off x="3254400" y="1636560"/>
            <a:ext cx="50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日欲出时一抹浅淡的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Box 21"/>
          <p:cNvSpPr/>
          <p:nvPr/>
        </p:nvSpPr>
        <p:spPr>
          <a:xfrm>
            <a:off x="3254400" y="2521080"/>
            <a:ext cx="45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日刚出时红得浓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Box 28"/>
          <p:cNvSpPr/>
          <p:nvPr/>
        </p:nvSpPr>
        <p:spPr>
          <a:xfrm>
            <a:off x="3102120" y="3803760"/>
            <a:ext cx="52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阳出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Box 23"/>
          <p:cNvSpPr/>
          <p:nvPr/>
        </p:nvSpPr>
        <p:spPr>
          <a:xfrm>
            <a:off x="3054240" y="698400"/>
            <a:ext cx="57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出前山庄一片寂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0" name="组合 2"/>
          <p:cNvGrpSpPr/>
          <p:nvPr/>
        </p:nvGrpSpPr>
        <p:grpSpPr>
          <a:xfrm>
            <a:off x="1473120" y="768240"/>
            <a:ext cx="1360440" cy="666720"/>
            <a:chOff x="1473120" y="768240"/>
            <a:chExt cx="1360440" cy="666720"/>
          </a:xfrm>
        </p:grpSpPr>
        <p:sp>
          <p:nvSpPr>
            <p:cNvPr id="1541" name="云形 3"/>
            <p:cNvSpPr/>
            <p:nvPr/>
          </p:nvSpPr>
          <p:spPr>
            <a:xfrm>
              <a:off x="1473120" y="76824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TextBox 4"/>
            <p:cNvSpPr/>
            <p:nvPr/>
          </p:nvSpPr>
          <p:spPr>
            <a:xfrm>
              <a:off x="1618920" y="78984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文本框 2"/>
          <p:cNvSpPr/>
          <p:nvPr/>
        </p:nvSpPr>
        <p:spPr>
          <a:xfrm>
            <a:off x="382680" y="1650960"/>
            <a:ext cx="63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落即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左大括号 1"/>
          <p:cNvSpPr/>
          <p:nvPr/>
        </p:nvSpPr>
        <p:spPr>
          <a:xfrm>
            <a:off x="963720" y="1036800"/>
            <a:ext cx="288720" cy="333360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3333600"/>
              <a:gd name="textAreaBottom" fmla="*/ 3326400 h 333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"/>
                  <a:pt x="10800" y="155"/>
                </a:cubicBezTo>
                <a:lnTo>
                  <a:pt x="10800" y="10645"/>
                </a:lnTo>
                <a:cubicBezTo>
                  <a:pt x="10800" y="10723"/>
                  <a:pt x="5400" y="10800"/>
                  <a:pt x="0" y="10800"/>
                </a:cubicBezTo>
                <a:cubicBezTo>
                  <a:pt x="5400" y="10800"/>
                  <a:pt x="10800" y="10878"/>
                  <a:pt x="10800" y="10955"/>
                </a:cubicBezTo>
                <a:lnTo>
                  <a:pt x="10800" y="21445"/>
                </a:lnTo>
                <a:cubicBezTo>
                  <a:pt x="10800" y="215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组合 8"/>
          <p:cNvGrpSpPr/>
          <p:nvPr/>
        </p:nvGrpSpPr>
        <p:grpSpPr>
          <a:xfrm>
            <a:off x="1419120" y="1836720"/>
            <a:ext cx="1317600" cy="733320"/>
            <a:chOff x="1419120" y="1836720"/>
            <a:chExt cx="1317600" cy="733320"/>
          </a:xfrm>
        </p:grpSpPr>
        <p:sp>
          <p:nvSpPr>
            <p:cNvPr id="1546" name="云形 9"/>
            <p:cNvSpPr/>
            <p:nvPr/>
          </p:nvSpPr>
          <p:spPr>
            <a:xfrm>
              <a:off x="1419120" y="1838520"/>
              <a:ext cx="1317600" cy="7315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TextBox 10"/>
            <p:cNvSpPr/>
            <p:nvPr/>
          </p:nvSpPr>
          <p:spPr>
            <a:xfrm>
              <a:off x="1567800" y="1836720"/>
              <a:ext cx="116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组合 12"/>
          <p:cNvGrpSpPr/>
          <p:nvPr/>
        </p:nvGrpSpPr>
        <p:grpSpPr>
          <a:xfrm>
            <a:off x="1514520" y="3763800"/>
            <a:ext cx="1278000" cy="667080"/>
            <a:chOff x="1514520" y="3763800"/>
            <a:chExt cx="1278000" cy="667080"/>
          </a:xfrm>
        </p:grpSpPr>
        <p:sp>
          <p:nvSpPr>
            <p:cNvPr id="1549" name="云形 13"/>
            <p:cNvSpPr/>
            <p:nvPr/>
          </p:nvSpPr>
          <p:spPr>
            <a:xfrm>
              <a:off x="1514520" y="3763800"/>
              <a:ext cx="1278000" cy="667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TextBox 14"/>
            <p:cNvSpPr/>
            <p:nvPr/>
          </p:nvSpPr>
          <p:spPr>
            <a:xfrm>
              <a:off x="1660320" y="3785760"/>
              <a:ext cx="113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左大括号 15"/>
          <p:cNvSpPr/>
          <p:nvPr/>
        </p:nvSpPr>
        <p:spPr>
          <a:xfrm>
            <a:off x="2948040" y="1590840"/>
            <a:ext cx="306360" cy="158400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584000"/>
              <a:gd name="textAreaBottom" fmla="*/ 157608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4"/>
                  <a:pt x="10800" y="348"/>
                </a:cubicBezTo>
                <a:lnTo>
                  <a:pt x="10800" y="7439"/>
                </a:lnTo>
                <a:cubicBezTo>
                  <a:pt x="10800" y="7613"/>
                  <a:pt x="5400" y="7787"/>
                  <a:pt x="0" y="7787"/>
                </a:cubicBezTo>
                <a:cubicBezTo>
                  <a:pt x="5400" y="7787"/>
                  <a:pt x="10800" y="7961"/>
                  <a:pt x="10800" y="8135"/>
                </a:cubicBezTo>
                <a:lnTo>
                  <a:pt x="10800" y="21252"/>
                </a:lnTo>
                <a:cubicBezTo>
                  <a:pt x="10800" y="2142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Box 19"/>
          <p:cNvSpPr/>
          <p:nvPr/>
        </p:nvSpPr>
        <p:spPr>
          <a:xfrm>
            <a:off x="3254400" y="1430280"/>
            <a:ext cx="50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等日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Box 28"/>
          <p:cNvSpPr/>
          <p:nvPr/>
        </p:nvSpPr>
        <p:spPr>
          <a:xfrm>
            <a:off x="3102120" y="3803760"/>
            <a:ext cx="47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对壮丽的日落的赞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Box 23"/>
          <p:cNvSpPr/>
          <p:nvPr/>
        </p:nvSpPr>
        <p:spPr>
          <a:xfrm>
            <a:off x="3054240" y="698400"/>
            <a:ext cx="57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写看日落的时间、地点、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Box 21"/>
          <p:cNvSpPr/>
          <p:nvPr/>
        </p:nvSpPr>
        <p:spPr>
          <a:xfrm>
            <a:off x="3254400" y="1870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赏日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Box 21"/>
          <p:cNvSpPr/>
          <p:nvPr/>
        </p:nvSpPr>
        <p:spPr>
          <a:xfrm>
            <a:off x="3254400" y="2346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天空中的云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Box 21"/>
          <p:cNvSpPr/>
          <p:nvPr/>
        </p:nvSpPr>
        <p:spPr>
          <a:xfrm>
            <a:off x="3254400" y="27748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海边的静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文本框 2"/>
          <p:cNvSpPr/>
          <p:nvPr/>
        </p:nvSpPr>
        <p:spPr>
          <a:xfrm>
            <a:off x="755640" y="1779480"/>
            <a:ext cx="5543640" cy="67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快快写起来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9" name="图片 14" descr=""/>
          <p:cNvPicPr/>
          <p:nvPr/>
        </p:nvPicPr>
        <p:blipFill>
          <a:blip r:embed="rId1"/>
          <a:stretch/>
        </p:blipFill>
        <p:spPr>
          <a:xfrm>
            <a:off x="6156360" y="1541520"/>
            <a:ext cx="2085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1" name="图片 3" descr="图片包含 户外, 建筑, 水, 草&#10;&#10;描述已自动生成"/>
          <p:cNvPicPr/>
          <p:nvPr/>
        </p:nvPicPr>
        <p:blipFill>
          <a:blip r:embed="rId1"/>
          <a:stretch/>
        </p:blipFill>
        <p:spPr>
          <a:xfrm>
            <a:off x="1501920" y="592200"/>
            <a:ext cx="5675040" cy="3778200"/>
          </a:xfrm>
          <a:prstGeom prst="rect">
            <a:avLst/>
          </a:prstGeom>
          <a:ln w="0">
            <a:noFill/>
          </a:ln>
        </p:spPr>
      </p:pic>
      <p:pic>
        <p:nvPicPr>
          <p:cNvPr id="1412" name="文本框 4" descr=""/>
          <p:cNvPicPr/>
          <p:nvPr/>
        </p:nvPicPr>
        <p:blipFill>
          <a:blip r:embed="rId2"/>
          <a:stretch/>
        </p:blipFill>
        <p:spPr>
          <a:xfrm>
            <a:off x="1708200" y="866880"/>
            <a:ext cx="286380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矩形 1"/>
          <p:cNvSpPr/>
          <p:nvPr/>
        </p:nvSpPr>
        <p:spPr>
          <a:xfrm>
            <a:off x="785880" y="3770280"/>
            <a:ext cx="7759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写好之后，和同位交换一下，看看谁写的最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1" name="图片 4" descr=""/>
          <p:cNvPicPr/>
          <p:nvPr/>
        </p:nvPicPr>
        <p:blipFill>
          <a:blip r:embed="rId1"/>
          <a:stretch/>
        </p:blipFill>
        <p:spPr>
          <a:xfrm>
            <a:off x="2257560" y="631800"/>
            <a:ext cx="46288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黑体"/>
                <a:ea typeface="黑体"/>
              </a:rPr>
              <a:t>作文修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图片 4" descr="图片包含 游戏机, 标志&#10;&#10;描述已自动生成"/>
          <p:cNvPicPr/>
          <p:nvPr/>
        </p:nvPicPr>
        <p:blipFill>
          <a:blip r:embed="rId1"/>
          <a:srcRect l="4110" t="3515" r="24576" b="24134"/>
          <a:stretch/>
        </p:blipFill>
        <p:spPr>
          <a:xfrm>
            <a:off x="2147760" y="1677960"/>
            <a:ext cx="1308240" cy="1327320"/>
          </a:xfrm>
          <a:prstGeom prst="rect">
            <a:avLst/>
          </a:prstGeom>
          <a:ln w="0">
            <a:noFill/>
          </a:ln>
        </p:spPr>
      </p:pic>
      <p:pic>
        <p:nvPicPr>
          <p:cNvPr id="1564" name="图片 8" descr=""/>
          <p:cNvPicPr/>
          <p:nvPr/>
        </p:nvPicPr>
        <p:blipFill>
          <a:blip r:embed="rId2"/>
          <a:stretch/>
        </p:blipFill>
        <p:spPr>
          <a:xfrm>
            <a:off x="101520" y="444600"/>
            <a:ext cx="1438200" cy="33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5" name="文本框 15"/>
          <p:cNvSpPr/>
          <p:nvPr/>
        </p:nvSpPr>
        <p:spPr>
          <a:xfrm>
            <a:off x="100080" y="430200"/>
            <a:ext cx="108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矩形 3"/>
          <p:cNvSpPr/>
          <p:nvPr/>
        </p:nvSpPr>
        <p:spPr>
          <a:xfrm>
            <a:off x="504720" y="1514520"/>
            <a:ext cx="670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早上，我舒舒服服地躺在床上，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睁开眼，透过窗户往外看，啊，起雾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我连忙洗漱完毕，叠好被子，走在去教室的路上。一路上浓雾弥漫，一片苍茫。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起初，天地间仿佛笼罩着一幅无比宽大的雾帘，远处的花草树木、教学楼，在雾中若隐若现；阳光一点也不耀眼，只显出朦胧的影子。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路上的同学来来往往，远远只听见杂碎的、间断的脚步声；晨跑的同学，就在靠近的一瞬，才看清楚了他们的面容；</a:t>
            </a: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等转过身再看时，他们的背影已慢慢远了，仿佛进入了仙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矩形 5"/>
          <p:cNvSpPr/>
          <p:nvPr/>
        </p:nvSpPr>
        <p:spPr>
          <a:xfrm>
            <a:off x="3312000" y="765000"/>
            <a:ext cx="1052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晨雾即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文本框 14"/>
          <p:cNvSpPr/>
          <p:nvPr/>
        </p:nvSpPr>
        <p:spPr>
          <a:xfrm>
            <a:off x="703440" y="352440"/>
            <a:ext cx="214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75000"/>
                </a:solidFill>
                <a:latin typeface="幼圆"/>
                <a:ea typeface="幼圆"/>
              </a:rPr>
              <a:t>例文赏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矩形 13"/>
          <p:cNvSpPr/>
          <p:nvPr/>
        </p:nvSpPr>
        <p:spPr>
          <a:xfrm>
            <a:off x="7209000" y="1184400"/>
            <a:ext cx="1719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开篇交代起雾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运用比喻修辞手法，表现了大雾弥漫的情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初入雾中，如入仙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图片 8" descr=""/>
          <p:cNvPicPr/>
          <p:nvPr/>
        </p:nvPicPr>
        <p:blipFill>
          <a:blip r:embed="rId1"/>
          <a:stretch/>
        </p:blipFill>
        <p:spPr>
          <a:xfrm>
            <a:off x="284040" y="407880"/>
            <a:ext cx="419400" cy="4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矩形 3"/>
          <p:cNvSpPr/>
          <p:nvPr/>
        </p:nvSpPr>
        <p:spPr>
          <a:xfrm>
            <a:off x="579600" y="790560"/>
            <a:ext cx="657540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忽然觉得自己也在这“仙境”中漫游了。我的眼前不断飘来轻纱似的薄雾，一颗颗、一粒粒，如烟、如尘……</a:t>
            </a:r>
            <a:r>
              <a:rPr b="1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我伸手去抓，哈，我抓住了！当我张开手细看，它早从我指尖溜走了，空气中到处都是它的身影，让我分不清哪是雾哪是仙境了，多顽皮的雾啊！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不一会儿，它又像一个巧妙的化妆师，把我额前的缕缕黑发染成一缕缕银丝，上下的睫毛都沾满了小小的水晶花。我把眼睛稍闭一会儿再张开，只觉得眼睛湿润润的，又觉有一丝凉意，舒服极了！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过了一会儿，雾小了。太阳脱下了厚厚的绒衣裳，披上了轻柔的雾纱。</a:t>
            </a:r>
            <a:r>
              <a:rPr b="1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一些大树的枝叶已经羞涩地从雾中露出了婀娜的身姿，柔枝摇曳，似乎是在招呼天上淡淡的白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矩形 13"/>
          <p:cNvSpPr/>
          <p:nvPr/>
        </p:nvSpPr>
        <p:spPr>
          <a:xfrm>
            <a:off x="7209000" y="625320"/>
            <a:ext cx="1719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手抓雾的情景，尽显童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运用比喻、拟人修辞手法，突出了雾的变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矩形 3"/>
          <p:cNvSpPr/>
          <p:nvPr/>
        </p:nvSpPr>
        <p:spPr>
          <a:xfrm>
            <a:off x="598320" y="898560"/>
            <a:ext cx="6575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柔和的阳光也洒了下来，这一切似乎构成了一幅宁静幽雅的水粉画。</a:t>
            </a:r>
            <a:r>
              <a:rPr b="1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可爱的雾儿呢，好像在太阳出来前表演够了，这会儿也该下场了，你看，它正轻轻地、轻轻地挥动着衣袖，慢慢地离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雾儿终究是淡了，散了，可我还是陶醉其中。</a:t>
            </a:r>
            <a:r>
              <a:rPr b="1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太阳这位杰出的画师又轻甩画笔，刹那间，我已置身在一个清晰明亮的世界里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矩形 13"/>
          <p:cNvSpPr/>
          <p:nvPr/>
        </p:nvSpPr>
        <p:spPr>
          <a:xfrm>
            <a:off x="7209000" y="841320"/>
            <a:ext cx="171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自然结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8" name="组合 6"/>
          <p:cNvGrpSpPr/>
          <p:nvPr/>
        </p:nvGrpSpPr>
        <p:grpSpPr>
          <a:xfrm>
            <a:off x="1914480" y="4073400"/>
            <a:ext cx="1871640" cy="895320"/>
            <a:chOff x="1914480" y="4073400"/>
            <a:chExt cx="1871640" cy="895320"/>
          </a:xfrm>
        </p:grpSpPr>
        <p:pic>
          <p:nvPicPr>
            <p:cNvPr id="1579" name="矩形: 圆角 7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990440" y="4073400"/>
              <a:ext cx="1795680" cy="47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0" name="图片 9" descr=""/>
            <p:cNvPicPr/>
            <p:nvPr/>
          </p:nvPicPr>
          <p:blipFill>
            <a:blip r:embed="rId3"/>
            <a:stretch/>
          </p:blipFill>
          <p:spPr>
            <a:xfrm>
              <a:off x="1914480" y="4167720"/>
              <a:ext cx="833040" cy="80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1" name="组合 10"/>
          <p:cNvGrpSpPr/>
          <p:nvPr/>
        </p:nvGrpSpPr>
        <p:grpSpPr>
          <a:xfrm>
            <a:off x="4572000" y="4059360"/>
            <a:ext cx="1873080" cy="896760"/>
            <a:chOff x="4572000" y="4059360"/>
            <a:chExt cx="1873080" cy="896760"/>
          </a:xfrm>
        </p:grpSpPr>
        <p:pic>
          <p:nvPicPr>
            <p:cNvPr id="1582" name="矩形: 圆角 1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648320" y="4059360"/>
              <a:ext cx="179676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3" name="图片 14" descr=""/>
            <p:cNvPicPr/>
            <p:nvPr/>
          </p:nvPicPr>
          <p:blipFill>
            <a:blip r:embed="rId6"/>
            <a:stretch/>
          </p:blipFill>
          <p:spPr>
            <a:xfrm>
              <a:off x="4572000" y="4154040"/>
              <a:ext cx="833760" cy="802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4" name="图示 3" descr=""/>
          <p:cNvPicPr/>
          <p:nvPr/>
        </p:nvPicPr>
        <p:blipFill>
          <a:blip r:embed="rId1"/>
          <a:stretch/>
        </p:blipFill>
        <p:spPr>
          <a:xfrm>
            <a:off x="419040" y="1028880"/>
            <a:ext cx="8302680" cy="3170160"/>
          </a:xfrm>
          <a:prstGeom prst="rect">
            <a:avLst/>
          </a:prstGeom>
          <a:ln w="0">
            <a:noFill/>
          </a:ln>
        </p:spPr>
      </p:pic>
      <p:sp>
        <p:nvSpPr>
          <p:cNvPr id="1585" name="矩形 2"/>
          <p:cNvSpPr/>
          <p:nvPr/>
        </p:nvSpPr>
        <p:spPr>
          <a:xfrm>
            <a:off x="3845160" y="46368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优点借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6" name="图片 3" descr=""/>
          <p:cNvPicPr/>
          <p:nvPr/>
        </p:nvPicPr>
        <p:blipFill>
          <a:blip r:embed="rId1"/>
          <a:stretch/>
        </p:blipFill>
        <p:spPr>
          <a:xfrm>
            <a:off x="884160" y="187200"/>
            <a:ext cx="7774200" cy="4727880"/>
          </a:xfrm>
          <a:prstGeom prst="rect">
            <a:avLst/>
          </a:prstGeom>
          <a:ln w="0">
            <a:noFill/>
          </a:ln>
        </p:spPr>
      </p:pic>
      <p:sp>
        <p:nvSpPr>
          <p:cNvPr id="1587" name="文本框 4"/>
          <p:cNvSpPr/>
          <p:nvPr/>
        </p:nvSpPr>
        <p:spPr>
          <a:xfrm>
            <a:off x="3400560" y="635040"/>
            <a:ext cx="392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面请和同位交换作文，根据“评分标准”相互批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要使用作文评改符号，最后得出总分，并写出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矩形 3"/>
          <p:cNvSpPr/>
          <p:nvPr/>
        </p:nvSpPr>
        <p:spPr>
          <a:xfrm>
            <a:off x="2058840" y="763560"/>
            <a:ext cx="5440680" cy="3616200"/>
          </a:xfrm>
          <a:prstGeom prst="rect">
            <a:avLst/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没有错别字，语句通顺，表达流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用词准确生动，意思表达清楚明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章结构清晰，详略得当，重点突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开头能点明主题，结尾能恰当呼应、升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章立意较好，符合主流价值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章主旨明确，有真情实感，抒发手法多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语言生动有个性，恰当使用修辞手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符合本次作文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描写是自然景观现象，而不是人为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按照一定的顺写，用了表示顺序的词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能写出景物变化，而且详略得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恰当使用生动修辞，语言优美流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矩形 4"/>
          <p:cNvSpPr/>
          <p:nvPr/>
        </p:nvSpPr>
        <p:spPr>
          <a:xfrm>
            <a:off x="1660680" y="763560"/>
            <a:ext cx="398160" cy="361620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评   价   标   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矩形 1"/>
          <p:cNvSpPr/>
          <p:nvPr/>
        </p:nvSpPr>
        <p:spPr>
          <a:xfrm>
            <a:off x="345960" y="1170000"/>
            <a:ext cx="84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    “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淅沥沥，淅沥沥</a:t>
            </a: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!”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是什么声音</a:t>
            </a: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?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喔</a:t>
            </a:r>
            <a:r>
              <a:rPr b="1" lang="en-US" sz="2000" spc="-1" strike="noStrike">
                <a:solidFill>
                  <a:srgbClr val="0000ff"/>
                </a:solidFill>
                <a:latin typeface="楷体"/>
                <a:ea typeface="楷体"/>
              </a:rPr>
              <a:t>!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原来是下雨了。秋雨落到番茄上，让番茄变得更加；秋雨落到茄子，顺着光滑的茄子滴到地上。秋雨落到高粱上，让高粱变得更加火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矩形 2"/>
          <p:cNvSpPr/>
          <p:nvPr/>
        </p:nvSpPr>
        <p:spPr>
          <a:xfrm>
            <a:off x="250920" y="563400"/>
            <a:ext cx="1361880" cy="4431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改范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文本框 3"/>
          <p:cNvSpPr/>
          <p:nvPr/>
        </p:nvSpPr>
        <p:spPr>
          <a:xfrm>
            <a:off x="1612800" y="492120"/>
            <a:ext cx="677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下面是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田野即景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评改前的段落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读一读，看看有什么问题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矩形 4"/>
          <p:cNvSpPr/>
          <p:nvPr/>
        </p:nvSpPr>
        <p:spPr>
          <a:xfrm>
            <a:off x="1216080" y="3024360"/>
            <a:ext cx="1361880" cy="441000"/>
          </a:xfrm>
          <a:prstGeom prst="rect">
            <a:avLst/>
          </a:prstGeom>
          <a:solidFill>
            <a:srgbClr val="8888ac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问题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文本框 5"/>
          <p:cNvSpPr/>
          <p:nvPr/>
        </p:nvSpPr>
        <p:spPr>
          <a:xfrm>
            <a:off x="1216080" y="3465360"/>
            <a:ext cx="6600600" cy="39888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段话一没有指出“变化”，二没有特定的描写顺序，语言上也过于平实，应该多加些修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0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矩形 1"/>
          <p:cNvSpPr/>
          <p:nvPr/>
        </p:nvSpPr>
        <p:spPr>
          <a:xfrm>
            <a:off x="701640" y="2179800"/>
            <a:ext cx="779472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    “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淅沥沥，淅沥沥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!”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是什么声音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?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喔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!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原来是下雨了。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秋天的雨，是一盒五彩缤纷的颜料。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你看，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在东边，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它把橙红色给了番茄，橙红色的番茄犹如一盏盏小灯笼，照呀照呀照出了丰收的果实；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在西边，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它把紫色给了茄子，茄子好似一个个滑滑梯，滑呀滑，滑来了丰收的喜悦。鲜艳的大红色，是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南边的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高梁的，火红的高粱，好似一把把火炬，传呀传呀，传来了幸福小康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矩形 2"/>
          <p:cNvSpPr/>
          <p:nvPr/>
        </p:nvSpPr>
        <p:spPr>
          <a:xfrm>
            <a:off x="250920" y="492120"/>
            <a:ext cx="1361880" cy="4017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评改范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文本框 3"/>
          <p:cNvSpPr/>
          <p:nvPr/>
        </p:nvSpPr>
        <p:spPr>
          <a:xfrm>
            <a:off x="1612800" y="401760"/>
            <a:ext cx="654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这是修改后的段落，和原段落对比一下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说说为什么这么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矩形 4"/>
          <p:cNvSpPr/>
          <p:nvPr/>
        </p:nvSpPr>
        <p:spPr>
          <a:xfrm>
            <a:off x="674640" y="985680"/>
            <a:ext cx="7908840" cy="3988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    “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淅沥沥，淅沥沥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!”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是什么声音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?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喔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!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原来是下雨了。秋雨落到番茄上，让番茄变得更加；秋雨落到茄子，顺着光滑的茄子滴到地上。秋雨落到高粱上，让高粱变得更加火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矩形 5"/>
          <p:cNvSpPr/>
          <p:nvPr/>
        </p:nvSpPr>
        <p:spPr>
          <a:xfrm>
            <a:off x="303120" y="968400"/>
            <a:ext cx="398520" cy="103356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原段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6"/>
          <p:cNvSpPr/>
          <p:nvPr/>
        </p:nvSpPr>
        <p:spPr>
          <a:xfrm>
            <a:off x="303120" y="2179800"/>
            <a:ext cx="398520" cy="174132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评改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文本框 11"/>
          <p:cNvSpPr/>
          <p:nvPr/>
        </p:nvSpPr>
        <p:spPr>
          <a:xfrm>
            <a:off x="1254240" y="4162320"/>
            <a:ext cx="641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加上了方位词，写出了方位上变化，用颜料盒作比喻，贯穿全段，拟人手法也使得文章增色不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3" name="图片 2" descr="森林里的路&#10;&#10;描述已自动生成"/>
          <p:cNvPicPr/>
          <p:nvPr/>
        </p:nvPicPr>
        <p:blipFill>
          <a:blip r:embed="rId1"/>
          <a:stretch/>
        </p:blipFill>
        <p:spPr>
          <a:xfrm>
            <a:off x="1665360" y="741240"/>
            <a:ext cx="5338800" cy="3535560"/>
          </a:xfrm>
          <a:prstGeom prst="rect">
            <a:avLst/>
          </a:prstGeom>
          <a:ln w="0">
            <a:noFill/>
          </a:ln>
        </p:spPr>
      </p:pic>
      <p:pic>
        <p:nvPicPr>
          <p:cNvPr id="1414" name="文本框 4" descr=""/>
          <p:cNvPicPr/>
          <p:nvPr/>
        </p:nvPicPr>
        <p:blipFill>
          <a:blip r:embed="rId2"/>
          <a:stretch/>
        </p:blipFill>
        <p:spPr>
          <a:xfrm>
            <a:off x="1708200" y="866880"/>
            <a:ext cx="286380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矩形: 圆角 1"/>
          <p:cNvSpPr/>
          <p:nvPr/>
        </p:nvSpPr>
        <p:spPr>
          <a:xfrm>
            <a:off x="863640" y="657360"/>
            <a:ext cx="7175520" cy="3311280"/>
          </a:xfrm>
          <a:prstGeom prst="roundRect">
            <a:avLst>
              <a:gd name="adj" fmla="val 3954"/>
            </a:avLst>
          </a:prstGeom>
          <a:solidFill>
            <a:srgbClr val="222222"/>
          </a:solidFill>
          <a:ln w="76320">
            <a:solidFill>
              <a:srgbClr val="bc7d5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文本框 4"/>
          <p:cNvSpPr/>
          <p:nvPr/>
        </p:nvSpPr>
        <p:spPr>
          <a:xfrm>
            <a:off x="2303640" y="882720"/>
            <a:ext cx="42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技巧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文本框 6"/>
          <p:cNvSpPr/>
          <p:nvPr/>
        </p:nvSpPr>
        <p:spPr>
          <a:xfrm>
            <a:off x="1714680" y="1528920"/>
            <a:ext cx="58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最好选择随时间而变化的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可分为“前、中、后”的顺序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写作的时候要多用动态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语言一定要力求优美，多使用些生动修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图片 2" descr="图片包含 游戏机, 自然, 夜空&#10;&#10;描述已自动生成"/>
          <p:cNvPicPr/>
          <p:nvPr/>
        </p:nvPicPr>
        <p:blipFill>
          <a:blip r:embed="rId1"/>
          <a:srcRect l="0" t="22120" r="0" b="755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416" name="图片 9" descr=""/>
          <p:cNvPicPr/>
          <p:nvPr/>
        </p:nvPicPr>
        <p:blipFill>
          <a:blip r:embed="rId2"/>
          <a:stretch/>
        </p:blipFill>
        <p:spPr>
          <a:xfrm>
            <a:off x="7205760" y="3995640"/>
            <a:ext cx="143820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17" name="图片 12" descr=""/>
          <p:cNvPicPr/>
          <p:nvPr/>
        </p:nvPicPr>
        <p:blipFill>
          <a:blip r:embed="rId3"/>
          <a:stretch/>
        </p:blipFill>
        <p:spPr>
          <a:xfrm>
            <a:off x="7205760" y="4336920"/>
            <a:ext cx="1438200" cy="33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18" name="文本框 15"/>
          <p:cNvSpPr/>
          <p:nvPr/>
        </p:nvSpPr>
        <p:spPr>
          <a:xfrm>
            <a:off x="7203960" y="3979800"/>
            <a:ext cx="1087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文本框 14"/>
          <p:cNvSpPr/>
          <p:nvPr/>
        </p:nvSpPr>
        <p:spPr>
          <a:xfrm>
            <a:off x="7215120" y="4329000"/>
            <a:ext cx="1087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矩形 15"/>
          <p:cNvSpPr/>
          <p:nvPr/>
        </p:nvSpPr>
        <p:spPr>
          <a:xfrm flipH="1">
            <a:off x="-720" y="112680"/>
            <a:ext cx="2771640" cy="2509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文本框 1"/>
          <p:cNvSpPr/>
          <p:nvPr/>
        </p:nvSpPr>
        <p:spPr>
          <a:xfrm>
            <a:off x="389160" y="6336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语文  五年级  上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文本框 7"/>
          <p:cNvSpPr/>
          <p:nvPr/>
        </p:nvSpPr>
        <p:spPr>
          <a:xfrm>
            <a:off x="2011320" y="1366920"/>
            <a:ext cx="4808520" cy="1191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黑体"/>
                <a:ea typeface="黑体"/>
              </a:rPr>
              <a:t>______</a:t>
            </a:r>
            <a:r>
              <a:rPr b="1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即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黑体"/>
                <a:ea typeface="黑体"/>
              </a:rPr>
              <a:t>审题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4" name="图片 2" descr=""/>
          <p:cNvPicPr/>
          <p:nvPr/>
        </p:nvPicPr>
        <p:blipFill>
          <a:blip r:embed="rId1"/>
          <a:stretch/>
        </p:blipFill>
        <p:spPr>
          <a:xfrm>
            <a:off x="1284120" y="1463760"/>
            <a:ext cx="1995480" cy="1996920"/>
          </a:xfrm>
          <a:prstGeom prst="rect">
            <a:avLst/>
          </a:prstGeom>
          <a:ln w="0">
            <a:noFill/>
          </a:ln>
        </p:spPr>
      </p:pic>
      <p:pic>
        <p:nvPicPr>
          <p:cNvPr id="1425" name="图片 3" descr=""/>
          <p:cNvPicPr/>
          <p:nvPr/>
        </p:nvPicPr>
        <p:blipFill>
          <a:blip r:embed="rId2"/>
          <a:stretch/>
        </p:blipFill>
        <p:spPr>
          <a:xfrm>
            <a:off x="101520" y="444600"/>
            <a:ext cx="1438200" cy="33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6" name="文本框 15"/>
          <p:cNvSpPr/>
          <p:nvPr/>
        </p:nvSpPr>
        <p:spPr>
          <a:xfrm>
            <a:off x="100080" y="430200"/>
            <a:ext cx="108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Box 1"/>
          <p:cNvSpPr/>
          <p:nvPr/>
        </p:nvSpPr>
        <p:spPr>
          <a:xfrm>
            <a:off x="1917720" y="1685160"/>
            <a:ext cx="5884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朝阳喷薄而出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夕阳缓缓西沉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林中百鸟争鸣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园中鲜花怒放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大自然的变化让我们感受到世界的奇妙和美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观察一种自然现象或一处自然景观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重点观察景物的变化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写下观察所得。根据自己的观察对象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把题目补充完整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如“雨中即景”“日落即景”“田野即景”“窗外即景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写的时候注意以下几点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    ◇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按照一定的顺序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有条理地描写景物。如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写窗外即景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可以按空间顺丹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由近及远地写一写窗外的景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◇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注意写出景物的动态变化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使画面更加鲜活。如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写日落即景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可以写一写太阳落下时形状的变化以及夕照下景物色彩的变化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写好以后读一读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看看是不是写出了景物的变化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对不满意的地方进行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矩形 15"/>
          <p:cNvSpPr/>
          <p:nvPr/>
        </p:nvSpPr>
        <p:spPr>
          <a:xfrm>
            <a:off x="2838600" y="1639800"/>
            <a:ext cx="2317680" cy="24624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对话气泡: 圆角矩形 16"/>
          <p:cNvSpPr/>
          <p:nvPr/>
        </p:nvSpPr>
        <p:spPr>
          <a:xfrm>
            <a:off x="4191120" y="542880"/>
            <a:ext cx="1341360" cy="368280"/>
          </a:xfrm>
          <a:prstGeom prst="wedgeRoundRectCallout">
            <a:avLst>
              <a:gd name="adj1" fmla="val -49870"/>
              <a:gd name="adj2" fmla="val 197731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写作对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矩形 11"/>
          <p:cNvSpPr/>
          <p:nvPr/>
        </p:nvSpPr>
        <p:spPr>
          <a:xfrm>
            <a:off x="5156280" y="1639800"/>
            <a:ext cx="1873080" cy="24624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对话气泡: 圆角矩形 12"/>
          <p:cNvSpPr/>
          <p:nvPr/>
        </p:nvSpPr>
        <p:spPr>
          <a:xfrm>
            <a:off x="5921280" y="565200"/>
            <a:ext cx="1341360" cy="366840"/>
          </a:xfrm>
          <a:prstGeom prst="wedgeRoundRectCallout">
            <a:avLst>
              <a:gd name="adj1" fmla="val -39935"/>
              <a:gd name="adj2" fmla="val 205500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写作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矩形 13"/>
          <p:cNvSpPr/>
          <p:nvPr/>
        </p:nvSpPr>
        <p:spPr>
          <a:xfrm>
            <a:off x="2733840" y="1886040"/>
            <a:ext cx="3492360" cy="19980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对话气泡: 圆角矩形 14"/>
          <p:cNvSpPr/>
          <p:nvPr/>
        </p:nvSpPr>
        <p:spPr>
          <a:xfrm>
            <a:off x="576360" y="1047600"/>
            <a:ext cx="1341360" cy="368280"/>
          </a:xfrm>
          <a:prstGeom prst="wedgeRoundRectCallout">
            <a:avLst>
              <a:gd name="adj1" fmla="val 107810"/>
              <a:gd name="adj2" fmla="val 195597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题目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矩形 19"/>
          <p:cNvSpPr/>
          <p:nvPr/>
        </p:nvSpPr>
        <p:spPr>
          <a:xfrm>
            <a:off x="1936800" y="2579760"/>
            <a:ext cx="5865840" cy="47448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对话气泡: 圆角矩形 20"/>
          <p:cNvSpPr/>
          <p:nvPr/>
        </p:nvSpPr>
        <p:spPr>
          <a:xfrm>
            <a:off x="612720" y="2363760"/>
            <a:ext cx="804960" cy="633600"/>
          </a:xfrm>
          <a:prstGeom prst="wedgeRoundRectCallout">
            <a:avLst>
              <a:gd name="adj1" fmla="val 106712"/>
              <a:gd name="adj2" fmla="val 17421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空间顺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对话气泡: 圆角矩形 21"/>
          <p:cNvSpPr/>
          <p:nvPr/>
        </p:nvSpPr>
        <p:spPr>
          <a:xfrm>
            <a:off x="612720" y="3156120"/>
            <a:ext cx="804960" cy="631800"/>
          </a:xfrm>
          <a:prstGeom prst="wedgeRoundRectCallout">
            <a:avLst>
              <a:gd name="adj1" fmla="val 111699"/>
              <a:gd name="adj2" fmla="val -7972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时间顺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22"/>
          <p:cNvSpPr/>
          <p:nvPr/>
        </p:nvSpPr>
        <p:spPr>
          <a:xfrm>
            <a:off x="1917720" y="3122640"/>
            <a:ext cx="5865840" cy="69840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2" descr=""/>
          <p:cNvPicPr/>
          <p:nvPr/>
        </p:nvPicPr>
        <p:blipFill>
          <a:blip r:embed="rId1"/>
          <a:stretch/>
        </p:blipFill>
        <p:spPr>
          <a:xfrm>
            <a:off x="1025640" y="439560"/>
            <a:ext cx="6995880" cy="4113360"/>
          </a:xfrm>
          <a:prstGeom prst="rect">
            <a:avLst/>
          </a:prstGeom>
          <a:ln w="0">
            <a:noFill/>
          </a:ln>
        </p:spPr>
      </p:pic>
      <p:sp>
        <p:nvSpPr>
          <p:cNvPr id="1439" name="文本框 3"/>
          <p:cNvSpPr/>
          <p:nvPr/>
        </p:nvSpPr>
        <p:spPr>
          <a:xfrm>
            <a:off x="3330720" y="1274760"/>
            <a:ext cx="39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我们先来理清作文中的几个概念，这样写起来更方便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文本框 3"/>
          <p:cNvSpPr/>
          <p:nvPr/>
        </p:nvSpPr>
        <p:spPr>
          <a:xfrm>
            <a:off x="3032280" y="979560"/>
            <a:ext cx="26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自然景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文本框 8"/>
          <p:cNvSpPr/>
          <p:nvPr/>
        </p:nvSpPr>
        <p:spPr>
          <a:xfrm>
            <a:off x="3032280" y="2574360"/>
            <a:ext cx="26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自然景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2"/>
          <p:cNvSpPr/>
          <p:nvPr/>
        </p:nvSpPr>
        <p:spPr>
          <a:xfrm>
            <a:off x="1074600" y="1928880"/>
            <a:ext cx="76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霜雪雨 闪电 月缺月圆 天气冷暖 结冰化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9"/>
          <p:cNvSpPr/>
          <p:nvPr/>
        </p:nvSpPr>
        <p:spPr>
          <a:xfrm>
            <a:off x="1074600" y="3522600"/>
            <a:ext cx="74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高山大河 森林草原 沙漠 高原 洼地 雨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30T03:27:18Z</dcterms:created>
  <dc:creator>Administrator</dc:creator>
  <dc:description/>
  <dc:language>en-US</dc:language>
  <cp:lastModifiedBy>万润仪器贸易公司</cp:lastModifiedBy>
  <dcterms:modified xsi:type="dcterms:W3CDTF">2020-08-24T06:39:00Z</dcterms:modified>
  <cp:revision>29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